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7315200" cy="54864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E98B-1FB8-4DC5-A1BD-ABFCE06C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7640" y="711360"/>
            <a:ext cx="7108920" cy="92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7640" y="1693800"/>
            <a:ext cx="7116840" cy="15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07640" y="3421800"/>
            <a:ext cx="7116840" cy="15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D278-D3F3-4B20-8D7E-4F3C9861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7640" y="711360"/>
            <a:ext cx="7108920" cy="92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7640" y="1693800"/>
            <a:ext cx="3472920" cy="15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54440" y="1693800"/>
            <a:ext cx="3472920" cy="15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7640" y="3421800"/>
            <a:ext cx="3472920" cy="15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754440" y="3421800"/>
            <a:ext cx="3472920" cy="15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9DE7-7CE5-45F6-8256-5E72BB1A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7640" y="711360"/>
            <a:ext cx="7108920" cy="92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7640" y="1693800"/>
            <a:ext cx="2291400" cy="15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513880" y="1693800"/>
            <a:ext cx="2291400" cy="15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20480" y="1693800"/>
            <a:ext cx="2291400" cy="15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07640" y="3421800"/>
            <a:ext cx="2291400" cy="15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2513880" y="3421800"/>
            <a:ext cx="2291400" cy="15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4920480" y="3421800"/>
            <a:ext cx="2291400" cy="15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FBC3-4EF9-40A9-85C4-4A0EEDE6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7F02-6F7A-45DC-BA99-F974DAB5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640" y="711360"/>
            <a:ext cx="7108920" cy="92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7640" y="1693800"/>
            <a:ext cx="7116840" cy="33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9547-6439-478D-AE63-454EF055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640" y="711360"/>
            <a:ext cx="7108920" cy="92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7640" y="1693800"/>
            <a:ext cx="7116840" cy="33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C526-6F49-4C91-8F4F-E4D4855E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7640" y="711360"/>
            <a:ext cx="7108920" cy="92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7640" y="1693800"/>
            <a:ext cx="3472920" cy="33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54440" y="1693800"/>
            <a:ext cx="3472920" cy="33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4AF4-8721-44D9-8227-17D8AC36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7640" y="711360"/>
            <a:ext cx="7108920" cy="92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418C-3315-4B0C-8C9A-5ED0AAF4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07640" y="711360"/>
            <a:ext cx="710892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76F1-6668-40EA-AF5F-2C836C21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640" y="711360"/>
            <a:ext cx="7108920" cy="92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7640" y="1693800"/>
            <a:ext cx="3472920" cy="15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754440" y="1693800"/>
            <a:ext cx="3472920" cy="33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7640" y="3421800"/>
            <a:ext cx="3472920" cy="15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6162-3075-4BE5-8591-66A17D05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640" y="711360"/>
            <a:ext cx="7108920" cy="92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07640" y="1693800"/>
            <a:ext cx="7116840" cy="33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2D16-3F8A-4112-9785-B331DFB8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7640" y="711360"/>
            <a:ext cx="7108920" cy="92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7640" y="1693800"/>
            <a:ext cx="3472920" cy="33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754440" y="1693800"/>
            <a:ext cx="3472920" cy="15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754440" y="3421800"/>
            <a:ext cx="3472920" cy="15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AB3A-423C-4185-9F44-48C189CC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7640" y="711360"/>
            <a:ext cx="7108920" cy="92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7640" y="1693800"/>
            <a:ext cx="3472920" cy="15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754440" y="1693800"/>
            <a:ext cx="3472920" cy="15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7640" y="3421800"/>
            <a:ext cx="7116840" cy="15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9276-7277-40E4-8E08-7443D4DA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640" y="711360"/>
            <a:ext cx="7108920" cy="92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7640" y="1693800"/>
            <a:ext cx="7116840" cy="15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07640" y="3421800"/>
            <a:ext cx="7116840" cy="15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BEBF-FF40-44AE-8CCD-723E8BFF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640" y="711360"/>
            <a:ext cx="7108920" cy="92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640" y="1693800"/>
            <a:ext cx="3472920" cy="15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754440" y="1693800"/>
            <a:ext cx="3472920" cy="15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07640" y="3421800"/>
            <a:ext cx="3472920" cy="15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754440" y="3421800"/>
            <a:ext cx="3472920" cy="15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7E46-15CD-49C3-99D2-9DEC0288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640" y="711360"/>
            <a:ext cx="7108920" cy="92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7640" y="1693800"/>
            <a:ext cx="2291400" cy="15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513880" y="1693800"/>
            <a:ext cx="2291400" cy="15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20480" y="1693800"/>
            <a:ext cx="2291400" cy="15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07640" y="3421800"/>
            <a:ext cx="2291400" cy="15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2513880" y="3421800"/>
            <a:ext cx="2291400" cy="15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4920480" y="3421800"/>
            <a:ext cx="2291400" cy="15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559E-419A-4B71-B61B-4E9B727D4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7640" y="711360"/>
            <a:ext cx="7108920" cy="92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7640" y="1693800"/>
            <a:ext cx="7116840" cy="33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E511-29F6-48DA-9E9E-55267B82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640" y="711360"/>
            <a:ext cx="7108920" cy="92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640" y="1693800"/>
            <a:ext cx="3472920" cy="33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54440" y="1693800"/>
            <a:ext cx="3472920" cy="33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D5D9-F989-49A7-90E1-ECF69C92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640" y="711360"/>
            <a:ext cx="7108920" cy="92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0446-65FA-4301-BC36-14C9E772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07640" y="711360"/>
            <a:ext cx="710892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73AE-BDBF-490F-A723-FE66699C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7640" y="711360"/>
            <a:ext cx="7108920" cy="92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640" y="1693800"/>
            <a:ext cx="3472920" cy="15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54440" y="1693800"/>
            <a:ext cx="3472920" cy="33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640" y="3421800"/>
            <a:ext cx="3472920" cy="15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C9FA-8B7C-4304-B693-DA664636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7640" y="711360"/>
            <a:ext cx="7108920" cy="92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7640" y="1693800"/>
            <a:ext cx="3472920" cy="33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54440" y="1693800"/>
            <a:ext cx="3472920" cy="15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754440" y="3421800"/>
            <a:ext cx="3472920" cy="15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C9F4-4E9A-44D4-82D9-26F55D62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7640" y="711360"/>
            <a:ext cx="7108920" cy="92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7640" y="1693800"/>
            <a:ext cx="3472920" cy="15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54440" y="1693800"/>
            <a:ext cx="3472920" cy="15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7640" y="3421800"/>
            <a:ext cx="7116840" cy="15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54A5-A3F2-4322-82C4-CE067062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640" y="711360"/>
            <a:ext cx="7108920" cy="92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7640" y="1693800"/>
            <a:ext cx="7116840" cy="33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586800" indent="-2257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02880" indent="-1803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263960" indent="-1803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1625040" indent="-1803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1625040" indent="-1803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1625040" indent="-1803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870280" y="42840"/>
            <a:ext cx="1585800" cy="52380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363840" y="49320"/>
            <a:ext cx="614520" cy="53964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868480" y="361800"/>
            <a:ext cx="1587600" cy="24300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868480" y="406440"/>
            <a:ext cx="1587600" cy="24588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879640" y="446040"/>
            <a:ext cx="1557360" cy="18252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895560" y="198360"/>
            <a:ext cx="96840" cy="3272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884320" y="14400"/>
            <a:ext cx="1560600" cy="330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352680" y="189000"/>
            <a:ext cx="73080" cy="318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50760" y="122400"/>
            <a:ext cx="2747880" cy="416880"/>
            <a:chOff x="50760" y="122400"/>
            <a:chExt cx="2747880" cy="416880"/>
          </a:xfrm>
        </p:grpSpPr>
        <p:sp>
          <p:nvSpPr>
            <p:cNvPr id="11" name=""/>
            <p:cNvSpPr/>
            <p:nvPr/>
          </p:nvSpPr>
          <p:spPr>
            <a:xfrm>
              <a:off x="50760" y="122400"/>
              <a:ext cx="2747880" cy="33948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0760" y="339840"/>
              <a:ext cx="2747880" cy="14616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760" y="389520"/>
              <a:ext cx="2747880" cy="14976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5880" y="131040"/>
              <a:ext cx="2704680" cy="19440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2000" y="440280"/>
              <a:ext cx="2702160" cy="788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4518000" y="122400"/>
            <a:ext cx="2747880" cy="442440"/>
            <a:chOff x="4518000" y="122400"/>
            <a:chExt cx="2747880" cy="442440"/>
          </a:xfrm>
        </p:grpSpPr>
        <p:sp>
          <p:nvSpPr>
            <p:cNvPr id="17" name=""/>
            <p:cNvSpPr/>
            <p:nvPr/>
          </p:nvSpPr>
          <p:spPr>
            <a:xfrm>
              <a:off x="4518000" y="122400"/>
              <a:ext cx="2747880" cy="36144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518000" y="352440"/>
              <a:ext cx="2747880" cy="15624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518000" y="406080"/>
              <a:ext cx="2747880" cy="1587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534560" y="131040"/>
              <a:ext cx="2703240" cy="20592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539240" y="460800"/>
              <a:ext cx="2702160" cy="8244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49000" y="499896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2498760" y="4998960"/>
            <a:ext cx="2317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5241600" y="499896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C9A7-3234-4857-B0E8-14A91F0E38C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419200" y="36360"/>
            <a:ext cx="2516400" cy="83844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46080"/>
            <a:ext cx="973080" cy="86364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17760" y="547560"/>
            <a:ext cx="2517840" cy="38736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17760" y="617400"/>
            <a:ext cx="2517840" cy="39240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35400" y="681120"/>
            <a:ext cx="2469960" cy="29196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46400" y="287280"/>
            <a:ext cx="154080" cy="51912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41520" y="4680"/>
            <a:ext cx="2475000" cy="51444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84560" y="268200"/>
            <a:ext cx="114120" cy="51120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08000" y="166680"/>
            <a:ext cx="2246040" cy="676440"/>
            <a:chOff x="108000" y="166680"/>
            <a:chExt cx="2246040" cy="676440"/>
          </a:xfrm>
        </p:grpSpPr>
        <p:sp>
          <p:nvSpPr>
            <p:cNvPr id="70" name=""/>
            <p:cNvSpPr/>
            <p:nvPr/>
          </p:nvSpPr>
          <p:spPr>
            <a:xfrm>
              <a:off x="117720" y="166680"/>
              <a:ext cx="2236320" cy="542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522720"/>
              <a:ext cx="2235960" cy="23508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8000" y="604080"/>
              <a:ext cx="2235960" cy="2390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0600" y="190800"/>
              <a:ext cx="2200680" cy="3114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24200" y="684000"/>
              <a:ext cx="2200680" cy="12708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994280" y="177840"/>
            <a:ext cx="2236680" cy="693360"/>
            <a:chOff x="4994280" y="177840"/>
            <a:chExt cx="2236680" cy="693360"/>
          </a:xfrm>
        </p:grpSpPr>
        <p:sp>
          <p:nvSpPr>
            <p:cNvPr id="76" name=""/>
            <p:cNvSpPr/>
            <p:nvPr/>
          </p:nvSpPr>
          <p:spPr>
            <a:xfrm>
              <a:off x="4994280" y="177840"/>
              <a:ext cx="2236680" cy="56556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94280" y="540000"/>
              <a:ext cx="2236680" cy="24120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994280" y="621000"/>
              <a:ext cx="2236680" cy="25020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007240" y="192960"/>
              <a:ext cx="2200680" cy="32256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10840" y="706320"/>
              <a:ext cx="2200680" cy="13068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49360" y="1828800"/>
            <a:ext cx="6216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549000" y="499896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2498760" y="4998960"/>
            <a:ext cx="2317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5241600" y="499896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D323-804C-4C35-8716-5C41012D8AF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365760" y="1283760"/>
            <a:ext cx="658332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esc.usgs.gov/yellowstone/IGBST_home.htm" TargetMode="External"/><Relationship Id="rId2" Type="http://schemas.openxmlformats.org/officeDocument/2006/relationships/hyperlink" Target="http://www.r6.fws.gov/endspp/grizzly/index.htm" TargetMode="External"/><Relationship Id="rId3" Type="http://schemas.openxmlformats.org/officeDocument/2006/relationships/hyperlink" Target="http://www.r6.fws.gov/endspp/grizzly/index.htm" TargetMode="External"/><Relationship Id="rId4" Type="http://schemas.openxmlformats.org/officeDocument/2006/relationships/hyperlink" Target="http://www.defenders.org/defenders/wildlife/grizzly/bitter.html" TargetMode="External"/><Relationship Id="rId5" Type="http://schemas.openxmlformats.org/officeDocument/2006/relationships/hyperlink" Target="http://www.nps.gov/yell/nature/animals/bears/index/htm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49360" y="1828800"/>
            <a:ext cx="6216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GRIZZLEY BEAR FACTS</a:t>
            </a:r>
            <a:br>
              <a:rPr sz="44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 BEAR NECCESSITI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096920" y="3109680"/>
            <a:ext cx="5121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Karen Marti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tegrating Technolog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to the Science Classroo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640" y="711360"/>
            <a:ext cx="7108920" cy="92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nemy Fact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GRIZZLEY BEAR FACTS-THE BEAR NECCESSITI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7640" y="1693800"/>
            <a:ext cx="7116840" cy="33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most significant natural enemy to grizzly bears is huma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79% of grizzly bears that die prematurely do so at the hands of humans (Dr. David Mattson-U.S. Geological Survey’s Biological Resources Division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640" y="711360"/>
            <a:ext cx="7108920" cy="92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Recovery Fact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GRIZZLEY BEAR FACTS-THE BEAR NECCESSITI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7640" y="1693800"/>
            <a:ext cx="7116840" cy="33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re are substantial efforts being made to save the grizzly bear.  Examples of this include efforts in Bitterroot Montana and Yellowstone National Park.  These programs seek to re-introduce the grizzly bear into areas it once flourished in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7640" y="711360"/>
            <a:ext cx="7108920" cy="92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Where To Go For More Facts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(Web Sites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GRIZZLEY BEAR FACTS-THE BEAR NECCESSITI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7640" y="2195640"/>
            <a:ext cx="7116840" cy="280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mesc.usgs.gov/yellowstone/IGBST_home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R6.fws.gov/endspp/grizzly/index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defenders.org/defenders/wildlife/grizzly/bitter.htm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www.nps.gov/yell/nature/animals/bears/index/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640" y="711360"/>
            <a:ext cx="7108920" cy="92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GRIZZLEY BEAR FACTS</a:t>
            </a:r>
            <a:br>
              <a:rPr sz="44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 BEAR NECCESSITIES</a:t>
            </a:r>
            <a:br>
              <a:rPr sz="36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7640" y="1693800"/>
            <a:ext cx="7116840" cy="33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istorical Fac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asic Fac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abitat Fac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od Fac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pulation Fac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reat Fac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nemy Fac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covery Fac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re To Go For More Facts (Web Site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640" y="711360"/>
            <a:ext cx="7108920" cy="92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Historical Fact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GRIZZLEY BEAR FACTS-THE BEAR NECCESSITI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7640" y="1693800"/>
            <a:ext cx="7116840" cy="33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ewis &amp; Clark killed 7 grizzly bears on their expedi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re was an estimated 50,000 grizzly bears at the time of the Lewis &amp; Clark expedi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grizzly bear has been designated “threatened” since 197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640" y="711360"/>
            <a:ext cx="7108920" cy="92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Basic Fact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GRIZZLEY BEAR FACTS-THE BEAR NECCESSITI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7640" y="1693800"/>
            <a:ext cx="7116840" cy="33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grizzly bear is America’s largest carnivo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grizzly bear stands up to 7 feet tall and weighs 300 to 800 pounds (average is 400 to 500 pound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ult grizzly bears measure from 6 to 8 feet lo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640" y="711360"/>
            <a:ext cx="7108920" cy="92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Habitat Fact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GRIZZLEY BEAR FACTS-THE BEAR NECCESSITI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7640" y="1693800"/>
            <a:ext cx="7116840" cy="33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types of terrain grizzlies loves is alpine meadows, pine, cedar and fir forests, glacial lakes and fast flowing streams flowing into lush river valley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remaining bears are concentrated in and around Yellowstone National Park, Glacier National Park and the Bob Marshall Wildern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rizzly bears are solitary and live in densely vegetated and remote are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7640" y="711360"/>
            <a:ext cx="7108920" cy="92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Food Fact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GRIZZLEY BEAR FACTS-THE BEAR NECCESSITI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7640" y="1693800"/>
            <a:ext cx="7116840" cy="33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grizzly’s staple food  i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alm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oo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er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u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sec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640" y="711360"/>
            <a:ext cx="7108920" cy="92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opulation Fact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GRIZZLEY BEAR FACTS-THE BEAR NECCESSITI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640" y="1693800"/>
            <a:ext cx="7116840" cy="33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re are fewer than 1,000 to 1,100 grizzly bears in the lower 48 st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re are an estimated 400 to 600 grizzly bears in Yellowstone National Par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number of adult breeding females has jumped from less than 30 in 1983 to over 100 tod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640" y="711360"/>
            <a:ext cx="7108920" cy="92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reat Fact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GRIZZLEY BEAR FACTS-THE BEAR NECCESSITI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7640" y="1693800"/>
            <a:ext cx="7116840" cy="33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major threats to grizzly bear recovery ar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abitat loss due to loss of foo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ivate land develop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uman caused mortal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source develop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640" y="711360"/>
            <a:ext cx="7108920" cy="92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reat Fact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GRIZZLEY BEAR FACTS-THE BEAR NECCESSITI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7640" y="1693800"/>
            <a:ext cx="7116840" cy="33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actions taken to counter threats to the grizzly bear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ose monitor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sponding to the needs of the bea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ducating the publi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und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0T05:56:08Z</dcterms:created>
  <dc:creator>Paul A. Martin</dc:creator>
  <dc:description/>
  <dc:language>en-US</dc:language>
  <cp:lastModifiedBy>deb miller</cp:lastModifiedBy>
  <dcterms:modified xsi:type="dcterms:W3CDTF">2000-06-18T15:51:20Z</dcterms:modified>
  <cp:revision>11</cp:revision>
  <dc:subject/>
  <dc:title>GRIZZLEY BEAR FACTS THE BEAR NECCESSITIES</dc:title>
</cp:coreProperties>
</file>